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5C1-B97C-4E54-B6B3-D40DD4AC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46A-06DA-48B3-864A-9E205F29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880-BB4C-481D-8E58-893D9FA1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293-F387-4E98-A6FD-22AD807F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ADA-F8DC-4F94-B756-FEA048E7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13E-0A1D-4E0E-99AD-CCDFF515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E80-8FE9-4364-A022-7F550D01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F1D-2ED9-483B-B2C9-38E378E4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2C5-901F-4CD8-A9CD-DCF25092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F10-93D4-48AE-826B-04F255C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904-4783-4B92-8587-045A739F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702-DA6A-4CE8-AB57-5C6D6548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FD94-0409-4D68-A085-2455A2CEB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692360" y="191628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МБОУ «Старокурмашевская ООШ» Актанышского муниципалного района 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95280" y="1484280"/>
            <a:ext cx="2230560" cy="503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дминистр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203640" y="3068640"/>
            <a:ext cx="2736720" cy="64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203640" y="1052640"/>
            <a:ext cx="2448000" cy="7207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д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419640" y="4005360"/>
            <a:ext cx="2232000" cy="57600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ов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таршеклас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084720" y="3933720"/>
            <a:ext cx="1295640" cy="5749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2484360" y="1773360"/>
            <a:ext cx="71928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4427640" y="2781360"/>
            <a:ext cx="0" cy="287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1547640" y="1989000"/>
            <a:ext cx="1656000" cy="1511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5508720" y="4221000"/>
            <a:ext cx="576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4427640" y="3716280"/>
            <a:ext cx="0" cy="289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4427640" y="1773360"/>
            <a:ext cx="0" cy="4316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5651640" y="1773360"/>
            <a:ext cx="649080" cy="14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5940000" y="1989000"/>
            <a:ext cx="1079640" cy="15843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23" descr=""/>
          <p:cNvPicPr/>
          <p:nvPr/>
        </p:nvPicPr>
        <p:blipFill>
          <a:blip r:embed="rId2"/>
          <a:stretch/>
        </p:blipFill>
        <p:spPr>
          <a:xfrm>
            <a:off x="176040" y="-85680"/>
            <a:ext cx="8425080" cy="1281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7"/>
          <p:cNvSpPr/>
          <p:nvPr/>
        </p:nvSpPr>
        <p:spPr>
          <a:xfrm>
            <a:off x="3419640" y="2133720"/>
            <a:ext cx="2230200" cy="64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тель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ще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6300720" y="1484280"/>
            <a:ext cx="2230560" cy="503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дагог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2987640" y="4149720"/>
            <a:ext cx="57636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3348000" y="4581360"/>
            <a:ext cx="503280" cy="216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5435640" y="4581360"/>
            <a:ext cx="504720" cy="2876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3"/>
          <p:cNvSpPr/>
          <p:nvPr/>
        </p:nvSpPr>
        <p:spPr>
          <a:xfrm>
            <a:off x="4643280" y="4365720"/>
            <a:ext cx="0" cy="6476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1116000" y="3789360"/>
            <a:ext cx="1871640" cy="719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ен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411280" y="4653000"/>
            <a:ext cx="1224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1649520" y="4897440"/>
            <a:ext cx="1295280" cy="8240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митет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су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/>
          <p:cNvSpPr/>
          <p:nvPr/>
        </p:nvSpPr>
        <p:spPr>
          <a:xfrm>
            <a:off x="3490920" y="5030640"/>
            <a:ext cx="1873080" cy="719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митет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уризму и спор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8"/>
          <p:cNvSpPr/>
          <p:nvPr/>
        </p:nvSpPr>
        <p:spPr>
          <a:xfrm>
            <a:off x="5867280" y="4869000"/>
            <a:ext cx="1944720" cy="8650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митет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рганизацио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ел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>
            <a:off x="1835280" y="4508640"/>
            <a:ext cx="0" cy="1800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>
            <a:off x="2916360" y="5445000"/>
            <a:ext cx="0" cy="93672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1"/>
          <p:cNvSpPr/>
          <p:nvPr/>
        </p:nvSpPr>
        <p:spPr>
          <a:xfrm>
            <a:off x="4643280" y="5734080"/>
            <a:ext cx="0" cy="719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2"/>
          <p:cNvSpPr/>
          <p:nvPr/>
        </p:nvSpPr>
        <p:spPr>
          <a:xfrm>
            <a:off x="6732720" y="4508640"/>
            <a:ext cx="0" cy="3603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6732720" y="5734080"/>
            <a:ext cx="0" cy="5745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187280" y="6308640"/>
            <a:ext cx="6985080" cy="405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ассное ученическое само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7480" y="216000"/>
            <a:ext cx="64389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ели деятельности школьног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240" y="1343160"/>
            <a:ext cx="3816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щита и представление прав и интересов школь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действие школьникам в решении образовательных, социальных вопросов, затрагивающих интересы 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хранение и развитие демократических традиций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чностное развитие учащихся в процессе взаимодейств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C:\Users\адиля\Pictures\101___09\IMG_0332.JPG"/>
          <p:cNvPicPr/>
          <p:nvPr/>
        </p:nvPicPr>
        <p:blipFill>
          <a:blip r:embed="rId2"/>
          <a:stretch/>
        </p:blipFill>
        <p:spPr>
          <a:xfrm>
            <a:off x="6456240" y="835200"/>
            <a:ext cx="2327400" cy="174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:\Users\адиля\Desktop\фотография\илдус\SDC13282.JPG"/>
          <p:cNvPicPr/>
          <p:nvPr/>
        </p:nvPicPr>
        <p:blipFill>
          <a:blip r:embed="rId3"/>
          <a:stretch/>
        </p:blipFill>
        <p:spPr>
          <a:xfrm>
            <a:off x="3760920" y="3432240"/>
            <a:ext cx="2158920" cy="16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C:\Users\адиля\Desktop\фотография\мэктэп чаралар\133___02\IMG_6485.JPG"/>
          <p:cNvPicPr/>
          <p:nvPr/>
        </p:nvPicPr>
        <p:blipFill>
          <a:blip r:embed="rId4"/>
          <a:stretch/>
        </p:blipFill>
        <p:spPr>
          <a:xfrm>
            <a:off x="6066000" y="4632480"/>
            <a:ext cx="2676240" cy="15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C:\Users\адиля\Desktop\фотография\мэктэп чаралар\134___03\IMG_6683.JPG"/>
          <p:cNvPicPr/>
          <p:nvPr/>
        </p:nvPicPr>
        <p:blipFill>
          <a:blip r:embed="rId5"/>
          <a:stretch/>
        </p:blipFill>
        <p:spPr>
          <a:xfrm>
            <a:off x="3938760" y="1670040"/>
            <a:ext cx="2717640" cy="153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C:\Users\адиля\Desktop\фотография\мэктэп чаралар\сомбелэ\IMG_5575.JPG"/>
          <p:cNvPicPr/>
          <p:nvPr/>
        </p:nvPicPr>
        <p:blipFill>
          <a:blip r:embed="rId6"/>
          <a:stretch/>
        </p:blipFill>
        <p:spPr>
          <a:xfrm>
            <a:off x="6010200" y="2779560"/>
            <a:ext cx="2847960" cy="160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C:\Users\адиля\Desktop\фотография\фото Ф\фото0079.jpg"/>
          <p:cNvPicPr/>
          <p:nvPr/>
        </p:nvPicPr>
        <p:blipFill>
          <a:blip r:embed="rId7"/>
          <a:stretch/>
        </p:blipFill>
        <p:spPr>
          <a:xfrm>
            <a:off x="3382920" y="5084640"/>
            <a:ext cx="253692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077840" y="1844640"/>
          <a:ext cx="6985080" cy="473220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резид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куль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спо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ресс-секрета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тру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52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обра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Редак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Во</a:t>
                      </a: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жатый 1,3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Вожатый 2,4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Вожатый 5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-60480"/>
            <a:ext cx="67294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1187280" y="1816200"/>
            <a:ext cx="6508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Школьное самоуправлени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 это процесс конструктивного взаимодействия школьников и администрации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кольное самоуправление – это участие школьников в управлении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кольное самоуправление – это явление, объединяющее все школьные инициати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кольное самоуправление – это особая форма        инициативной самостоятельной общественной деятельности школьников, направленная на решение вопросов по организации обучения, досуга, а также развития социальной активности школь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C:\Users\адиля\Desktop\фотография\мэктэп чаралар\134___03\IMG_6667.JPG"/>
          <p:cNvPicPr/>
          <p:nvPr/>
        </p:nvPicPr>
        <p:blipFill>
          <a:blip r:embed="rId2"/>
          <a:stretch/>
        </p:blipFill>
        <p:spPr>
          <a:xfrm>
            <a:off x="5870520" y="317520"/>
            <a:ext cx="2908440" cy="1639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адиля\Desktop\фотография\мэктэп чаралар\134___03\IMG_6668.JPG"/>
          <p:cNvPicPr/>
          <p:nvPr/>
        </p:nvPicPr>
        <p:blipFill>
          <a:blip r:embed="rId3"/>
          <a:stretch/>
        </p:blipFill>
        <p:spPr>
          <a:xfrm>
            <a:off x="6151680" y="4614840"/>
            <a:ext cx="2627280" cy="147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Users\адиля\Desktop\фотография\мэктэп чаралар\134___03\IMG_6671.JPG"/>
          <p:cNvPicPr/>
          <p:nvPr/>
        </p:nvPicPr>
        <p:blipFill>
          <a:blip r:embed="rId4"/>
          <a:stretch/>
        </p:blipFill>
        <p:spPr>
          <a:xfrm>
            <a:off x="165240" y="317520"/>
            <a:ext cx="2663640" cy="149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Users\адиля\Desktop\фотография\мэктэп чаралар\134___03\IMG_6675.JPG"/>
          <p:cNvPicPr/>
          <p:nvPr/>
        </p:nvPicPr>
        <p:blipFill>
          <a:blip r:embed="rId5"/>
          <a:stretch/>
        </p:blipFill>
        <p:spPr>
          <a:xfrm>
            <a:off x="2798640" y="189000"/>
            <a:ext cx="2936880" cy="165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:\Users\адиля\Desktop\фотография\мэктэп чаралар\134___03\IMG_6676.JPG"/>
          <p:cNvPicPr/>
          <p:nvPr/>
        </p:nvPicPr>
        <p:blipFill>
          <a:blip r:embed="rId6"/>
          <a:stretch/>
        </p:blipFill>
        <p:spPr>
          <a:xfrm>
            <a:off x="3114720" y="4809960"/>
            <a:ext cx="2652840" cy="1487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:\Users\адиля\Desktop\фотография\07122013720.jpg"/>
          <p:cNvPicPr/>
          <p:nvPr/>
        </p:nvPicPr>
        <p:blipFill>
          <a:blip r:embed="rId7"/>
          <a:stretch/>
        </p:blipFill>
        <p:spPr>
          <a:xfrm>
            <a:off x="1060560" y="4511520"/>
            <a:ext cx="15602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28960" y="-777600"/>
            <a:ext cx="231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2054160" y="579600"/>
            <a:ext cx="561492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1000080" y="1857240"/>
          <a:ext cx="7056360" cy="4276800"/>
        </p:xfrm>
        <a:graphic>
          <a:graphicData uri="http://schemas.openxmlformats.org/drawingml/2006/table">
            <a:tbl>
              <a:tblPr/>
              <a:tblGrid>
                <a:gridCol w="601560"/>
                <a:gridCol w="3867120"/>
                <a:gridCol w="2587680"/>
              </a:tblGrid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милия 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рипова Гульн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йрат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ид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рипова Диляфруз Марсел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лимов Рафил Гамис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рипов Риг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ил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данова Язиля Ильнур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сс-секре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фарова Гузелия Айзат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сс-секре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липова Гульнара Нурсаяф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 куль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риева Ильзира Абудар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иева Лейля Рим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атый 1,3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брагимова Гульзада Рамил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жатый 2,4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имова Илюза Ильяс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жатый 5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56"/>
          <p:cNvSpPr/>
          <p:nvPr/>
        </p:nvSpPr>
        <p:spPr>
          <a:xfrm>
            <a:off x="2270160" y="15451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64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Ученический комит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проводит совещания членов советов классов, ответственный за дежурство разъясняет цели, задачи, обязанност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разрабатывает систему контроля посещения, успеваемости учащихся по школе и классам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проводит рейды с целью проверки учебных принадлежностей, подготовленности к урокам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предоставляет отчет о работе председателю Совета старшеклассни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адиля</dc:creator>
  <dc:description/>
  <dc:language>en-US</dc:language>
  <cp:lastModifiedBy>Юнусова</cp:lastModifiedBy>
  <cp:lastPrinted>2015-11-20T10:02:35Z</cp:lastPrinted>
  <dcterms:modified xsi:type="dcterms:W3CDTF">2015-11-20T10:03:32Z</dcterms:modified>
  <cp:revision>20</cp:revision>
  <dc:subject/>
  <dc:title>Слайд 1</dc:title>
</cp:coreProperties>
</file>